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chimes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9F97-033E-47F1-8345-73D06761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e back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CF0C-2A2E-496A-BE7E-8A6D94EC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45E2-D849-493E-BE57-932BBA1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447B0-E22F-4E45-B50E-A409B44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25367-3292-45F0-8014-780E6E5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B1E1A-FE78-49A1-A9AE-A98D0446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F80DA-D2E1-4A20-8B01-FFB00A6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69EA2-6B7F-48C4-A3A6-7030941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ED23-642D-4F40-832D-3E64E78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6FFED-8133-4E50-86E1-12F74ABF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E919D-1296-4600-ACF7-73437967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F8581-932C-41E4-8FD4-D0262766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0F584-77D4-4813-A943-D8F34815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7D11-D58B-4796-AFDF-67F2CD5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0D10-176E-452E-B50D-A05DDFA0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70508-1614-4739-8284-C10F269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8F0F3-B3A8-456B-9E0B-96D365E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A1E5E-D10F-4D1E-893B-BB1796E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5664C-B86D-4F37-B57F-80CE4DE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AAE72-BE32-4B7A-8B69-D03F705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1358D-7715-4200-BF90-EAA0A9A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07F4-FC00-4E01-8D10-C9D3612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09158-91F5-479F-9AD2-5465F17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6619B-747F-4747-A93A-735314B5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13DD-C5AB-44FE-92C0-2DFF7993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02F7A-3B2D-4A9B-A12A-E3877A7A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868D1-9FF7-4A99-AEAC-F7B3687D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69B8D-8937-4C2A-8BD7-D91C3359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E07F-937B-428E-A5FA-7AB3563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F4902-3E72-43A3-A491-E24FF5AF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09B9-CF7F-4869-A7C1-F840D674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B344A-5FDD-4881-A73A-4F4F78A1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7F96D-4FF1-48F4-9909-53EB0F2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03171-FEA2-4E3B-89D4-42A6979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53A6-581A-49B0-B510-358576A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70C2-1A63-48AF-9B96-14979383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8D15-A0DC-4911-A48D-3994C38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C549-49FC-47B3-A1E0-6DABA468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8E93-9FE5-4500-AFFC-BC8F063B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11629A-007F-424B-A6B3-E374DC5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4B79A5-72C4-4EF6-B0AA-7598E43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BB9207-4635-4E39-89C5-1A1514D4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3FBE3F-BD64-49E0-8465-8AE4A3D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C22D6-0AAE-4352-8DEC-FEB0CE7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3806C3-8F0E-41C9-80AA-898468AE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E52A1A-F03C-45C7-98BE-045D652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C067-5145-4940-B9D3-6997CEDA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78779F-A072-4A79-AEC6-2358AAF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0AE497-AE11-46EC-847D-1EED2F92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2BC334-983E-4372-934B-85B458D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32D356-43C1-44BC-A909-4ECA0198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75258D-829B-4B6A-9DD5-214806C3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164-C2E3-42E5-AACB-5450EC8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304D-F219-4B5D-82FD-D69A5FB2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11E-7613-4EDD-8999-58E2DE6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C2FB-F899-4019-9BAB-A9498EFD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026-B983-4D74-B2E1-4CF9287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E5B5-C8B9-43B0-88A5-A390F31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645-B6A7-41C8-86A5-176667F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78D8-0940-468C-BA91-82D07E7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5A9-55F3-4649-BFE5-11E163E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965-B054-46FD-A353-F6D2CF41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A4D-E275-47D3-869F-B1E8F14A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DA93-0A4F-45EC-9EF9-0E12DA9B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4413-B98A-4C7A-9D9C-8933028E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30AF-DA24-4FF7-A469-9066D15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65EE-36E0-4E88-848D-9C80B11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8E43-1A3F-4F8C-9E9A-239A202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90E9-7EED-4618-8DCA-986A96C1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76AD-2D67-43BE-B604-E5793A9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A4DF-31D7-4145-86FF-9971B72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C3FA-78A6-40ED-8F72-7A1B4A1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DDA8-18D4-4A4B-86D9-599337CD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CD26-6998-45E6-B1D2-0BEF93A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515E-5F7B-4674-882E-DEAB460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9D22-5680-431E-A0CD-03D945B3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B792-3CAC-475F-ACCA-8DE18A96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6EF4-7012-4699-A5C8-D926C39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FA47-D0E8-4371-B256-BB260D8A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6CD2-D733-401A-A741-AE16344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538D-203E-4A6B-9CE5-407C6F1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B155-E383-47BE-B440-A87DF382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1C8F-B099-4F79-B5EF-E1CFCF2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9D19-7C21-4AA5-96BA-43B20A6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ECF2-64BC-49B1-8F32-41A55EF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C44B-430B-4D29-9ED0-8EF04B6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DDA6-71DF-42EA-B8FB-8A8777D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8329-66D4-45A2-8A3B-9895135F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2254-4FA1-402F-AF50-9AA3E33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3C5D-8F39-40D0-9B8A-2E9C2743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E0DC-540E-4D65-9D41-F83F229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9CAB-981D-482E-91D6-8876169A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DA05-DA74-4DD4-9242-CA1DEF3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EE226-639B-4AA6-A440-7CEAA6D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B56E-5DC6-431B-8D35-82D48FF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ADE2-674B-45D5-8BF4-E0451DA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0A9D-B246-44FE-8AF7-2E48E4B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DB19-AE5C-499E-9A5C-238224F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E631-4B39-4D6E-92EE-B8C602A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163C-31A7-47CF-9CDD-F654A06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EAF2-8B3D-40CF-AB66-954A0C65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2217-766F-45B1-AC00-644CD8F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CD15-DDBA-4FD7-ACBA-EE0BA82D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B95F-08D4-4562-AA1F-7DD043E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5FA3-A7E2-4784-BF51-85C48CC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3302-7EC5-42DF-A6B0-87C173D3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E079-43DC-4621-B0AD-ED3ED247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A8003-FC03-4456-9757-3EB86F6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3E904-5A48-4FEF-9ACB-B73B45F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30D6-6E51-4B46-91A5-32E6DA1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F998-95CB-45C0-8ECD-F2B7D09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C1BF-221B-4312-971E-D339116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4AE6-93CE-4C3B-96FD-9A9A32B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7BC9-F449-4943-BBFE-76C93ED0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AF2F-A689-43C2-9008-EFC58A43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351E-084A-40CC-82C4-312AA967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15E97-412C-4F08-AB2D-FD95C69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E549-922F-44E9-8B9E-50F7A33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AAAA-9F51-4881-940D-9705252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C89D-BF87-406F-9E2F-182F1D5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902B-1995-4186-9B0F-7968F08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7CFA-BEF6-465E-A38F-628920A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D3D3-CDDF-4289-B882-AA83C26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5AB1-C508-4765-9985-7C08390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D8435-EBCA-4676-BC71-6365AA5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5873-CBF9-4446-A6F2-8750B00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2638-BB80-47DA-A0B1-FDA3FDFC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30EA-6792-4999-9E80-3FCAC771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DD0D-9EDF-4632-BDEC-21295A6D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658B-1985-4A26-A719-76E82292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F02D8-C6A5-4582-9ED7-B0659A2D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414B-BA87-4A24-AADD-738AE47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3628-B4C4-419B-8DC0-8949ABF2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07C6-8F48-47B0-BFD3-249323A0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DBBB-718A-4578-A0CD-9827D5E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4104-958F-4755-8D8E-7E50678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3C52-93A8-40C6-929E-82CD3D6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03D6D-B7DC-414E-B53E-1A8CBA6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4153-98EC-43A0-998B-895C526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BF12-07AD-4C43-B748-5F264AF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8B44-75B0-4F0C-B613-48CA762D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6D17-FA5A-4C35-8122-47A426CC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832D1-6BFC-422E-9CBB-2C14FFE0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76CB3-D1B9-4AF0-851B-D0E6122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A128-856F-403D-878A-A278897B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77A-A45A-433F-A419-5E662AB957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1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A81A-4F0D-472F-8C6E-3FD06BFADF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7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8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8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524-9596-4C19-9E30-5E5A56048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3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3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4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4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F4B-1C3D-465E-8F3F-848ACE239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2CA-9692-4E81-A4B4-1635874F85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DCD-99ED-4E3C-9D8C-848383E36D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D32A-A6DD-48A5-9B16-5B80A977FE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016-3F1A-4DED-8321-4945A2104E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A3E-26E8-4DC0-B0CC-94E87CF1F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E96-A58B-4498-AEA7-BCF8791F685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217-0AFC-4E96-9C9E-23CBBB0D33D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565F-0E50-4694-B5F1-42BF703776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2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Tempus Sans ITC"/>
              </a:rPr>
              <a:t>Masks</a:t>
            </a:r>
            <a:r>
              <a:rPr b="0" lang="en-US" sz="4800" spc="-1" strike="noStrike">
                <a:solidFill>
                  <a:srgbClr val="ffffcc"/>
                </a:solidFill>
                <a:latin typeface="Tempus Sans ITC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V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a raven mask that the kawaka’s wore at the special gather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pe and 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4495680" y="2166840"/>
            <a:ext cx="419112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UMAN MASK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kawaka human mask that was w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0625 -0.00971 C 0.01319 -0.02312 0.02031 -0.03769 0.02726 -0.05642 C 0.04618 -0.1096 0.05122 -0.16162 0.03733 -0.16971 C 0.02326 -0.17896 -0.00382 -0.14174 -0.02274 -0.08833 C -0.03281 -0.06035 -0.03872 -0.03376 -0.0408 -0.01364 C -0.04375 0.00231 -0.04479 0.01826 -0.04479 0.03699 C -0.04479 0.09688 -0.03177 0.14636 -0.01667 0.14636 C -0.00174 0.14636 0.01128 0.09688 0.01128 0.03699 C 0.01128 0.00902 0.00833 -0.01781 0.0033 -0.0363 C 0.00122 -0.05249 -0.00382 -0.07006 -0.00972 -0.08694 C -0.02969 -0.14174 -0.05677 -0.17896 -0.07083 -0.16971 C -0.08472 -0.16046 -0.07969 -0.1096 -0.05972 -0.05503 C -0.05174 -0.0296 -0.0408 -0.00833 -0.02969 0.00624 C -0.0217 0.01965 -0.01267 0.03167 -0.00069 0.0437 C 0.03524 0.08231 0.07118 0.09965 0.08125 0.0837 C 0.09028 0.06751 0.07031 0.02358 0.0342 -0.01364 C 0.01927 -0.0296 0.0033 -0.04162 -0.00972 -0.04971 C -0.0217 -0.05781 -0.03681 -0.06451 -0.05278 -0.06867 C -0.0967 -0.08162 -0.13472 -0.07769 -0.13767 -0.05642 C -0.14167 -0.0363 -0.10868 -0.00971 -0.06476 0.0037 C -0.04479 0.00902 -0.02569 0.01156 -0.01076 0.0104 C 0.00226 0.0104 0.01632 0.00763 0.03125 0.0037 C 0.07517 -0.00971 0.10833 -0.03769 0.10417 -0.05781 C 0.10122 -0.07769 0.06319 -0.08301 0.01927 -0.07006 C -0.00174 -0.06312 -0.02083 -0.05364 -0.03368 -0.04301 C -0.04479 -0.03515 -0.05573 -0.02567 -0.06771 -0.01364 C -0.10278 0.02497 -0.12378 0.06751 -0.11372 0.0837 C -0.10469 0.09965 -0.06771 0.08231 -0.03281 0.04462 C -0.0158 0.02636 -0.00174 0.00763 0.00625 -0.00971 Z">
                                      <p:cBhvr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49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49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49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ear m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ar mask was also worn at ceremonie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ra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 and 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180040" y="1295280"/>
            <a:ext cx="3624120" cy="480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9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info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he mask are between one foot and 10 fe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They can get </a:t>
            </a:r>
            <a:r>
              <a:rPr b="1" lang="en-US" sz="2800" spc="-1" strike="noStrike" u="sng">
                <a:solidFill>
                  <a:srgbClr val="ccff66"/>
                </a:solidFill>
                <a:uFillTx/>
                <a:latin typeface="Garamond"/>
              </a:rPr>
              <a:t>REALLY</a:t>
            </a:r>
            <a:r>
              <a:rPr b="0" lang="en-US" sz="2800" spc="-1" strike="noStrike">
                <a:solidFill>
                  <a:srgbClr val="ccff66"/>
                </a:solidFill>
                <a:latin typeface="Garamond"/>
              </a:rPr>
              <a:t> heavy at times. They are can get really big ,to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-762120" y="19051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nd special thanks to you for watching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Alexandra and Alex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1:59:22Z</dcterms:created>
  <dc:creator>Administrator</dc:creator>
  <dc:description/>
  <dc:language>en-US</dc:language>
  <cp:lastModifiedBy>Denise</cp:lastModifiedBy>
  <dcterms:modified xsi:type="dcterms:W3CDTF">2007-12-04T04:20:04Z</dcterms:modified>
  <cp:revision>10</cp:revision>
  <dc:subject/>
  <dc:title>Slide 1</dc:title>
</cp:coreProperties>
</file>